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7B03-0148-4A8D-973E-593D75DB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3D3-23EB-4C27-9565-0D5C3403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D0F-FE5F-496A-880D-5B48CBAD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7C3-37FB-41ED-8768-65C5C860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C044-2059-4128-B743-35F5EBBA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13C5-538F-4614-8359-78270240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C2C6-D110-475E-A819-467E364E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22B9-D9F6-4D4C-818C-DCFDE71E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C3A7-A7E9-4E89-A7F1-194C3E8B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5E3B-4625-454B-AD77-6BEC9FA5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59BC-903D-4943-A39D-246904C8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D3E-339D-4E32-BE9E-CC1AE494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ED4B-62E8-43BC-8564-46B7375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BA92-3FEF-4122-AF02-3C83C84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945E-26C7-4525-948F-3A59C9B3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28A5-C530-4CDF-913C-332AFA0B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135A-3B46-426C-A632-DA39F6E7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B5089-08CE-45AD-8523-928A66EF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A3A1-34A4-47E7-9F5A-0BD104FB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2843-3E7D-4736-921A-849B3E0B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2C8A-D712-481F-8F27-2626F2E2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4226-1D96-42D7-9577-CBC0140A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F89-E739-4DDF-AF93-EE466E4A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738B-6963-46A2-A682-AFC37252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443E-E5C2-4C98-A4D0-60F46D0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5523-FEA7-47AB-8C15-9C414304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0C14-BA3D-4CB4-82E2-6F7EE72B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F400-8F20-4314-8F9E-4622E339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F93C-C967-47C2-BC0A-81DAD999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1A7A-B53A-4302-89E2-8088C4DB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E3DD-DC5E-4378-B07D-276F0F57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2D73-F207-47BC-BDC8-900AE00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2A83-B1DD-4E20-A4F7-A5A491BF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93CB-76FE-4EA8-A24C-27B74444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AD65E-28B0-4B88-8038-24DF862C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549F-B83B-462D-866D-475F07E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BEB4-912A-47C7-A348-FA0BF456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38F8-9158-404A-A93D-7148A69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8F146-7960-4603-8197-368C4686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509A-527A-47A4-B7A9-EEC2F8D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E777-7687-4542-BD39-44E9675E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1B3A-469F-4AFE-A25B-65F4696F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9118-6A05-4C95-90C6-DCB3CA49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15AA2-2F1A-4F54-9CCC-CC232D9E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2E0-8D33-4E0A-B55A-C371B12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CCBB-D130-4849-B47D-7186497D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141C5-4FFA-4607-9C57-767F7739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F9F87-6586-46C2-9095-F725DA93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06901-E51C-4518-93E4-AEC6E905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699D1-A84F-4315-9D4B-F044CAC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1FB97-86CB-43EC-8BE6-E15666C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AD5C-7472-43F7-B303-EC60F4F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AED5C-A18A-4878-B4A3-D97D7C9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7AA46-C134-4969-AE96-82EA80B2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15C11-56A9-4D6B-88F3-8FB0880D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4CE-00B8-4DD2-8EAC-392795B7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800E-8169-43EC-BE57-6CB9003A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17245-FFD8-4175-A273-1CF536F5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9ACD-1A99-4CF6-BC0E-A38CBD25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45119-8443-4966-B8C6-009E59F2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A99D8-FCD0-4692-A563-EF79862B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B8BC-F541-4E41-A162-6F9F6B66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81EB-B852-49D6-91EC-A8665F06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1930-4B70-4030-8C39-D8AAC74A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283E6-DACD-43E5-8C40-D318AD7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799B7-F248-4F96-B75E-7EA9932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2DC-A53B-49D1-B6D0-9F333367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0DB1A-E94D-4775-A521-BCD894DA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9A22A-0938-40BC-930E-51E2CB93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C7B35-04DD-47DE-8931-5AA2D94E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A54E2-26CB-47B0-A805-D2C38D16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532EF-BA60-47AA-BB6B-DC66C0A4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710DA-18B8-4385-9E91-87086E18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1581-6839-4DF5-8439-897CE0F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4795D-74C6-4B01-8763-C4A5D82D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00D28-CDB2-4F3B-8E34-28281B17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9C119-B9BE-4425-8EFB-43F4C21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B66-F7A5-4FBD-B0A5-E11A57D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6384-070F-417E-8598-C592FBFE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5D069-AE7A-482A-BB37-9D8BABD7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F61D6-40BF-426E-B872-B4606275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95E09-4FE2-4623-A4E6-B6B36764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CE601-DE5C-454F-8247-84ADDC3B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6BD84-BF9A-4745-A637-4A607252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FF200-5070-47D0-958B-0D1E432F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7EE78-3E43-49B7-8755-0ECE3F2A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C3DB9-7EAB-4C05-A0A3-1E1B250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8F2BE-A8C3-4AE2-874C-91D91B4F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BEDD-A303-44B7-AE26-E78CB77A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46D0-7BF9-48CD-A8ED-1EDF96C4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B2892-86E5-42ED-9B06-A91B7F6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E4180-6EF6-4A3A-896C-3F2A107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FFA33-37FC-4AD8-BB02-A5A95D8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2B511-ED7E-4B0F-B12E-374059C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C5DFC-FE0C-4227-8D7D-C7181E21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44F8A-D2DB-4467-93D8-8667E4DC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0891-8792-4926-B6A9-EF4FBE5D3086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14F1-4C08-476C-BC3B-31511368BC0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51F-AF69-47F7-987E-47781A7CB778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D825-82ED-4962-80C1-85419AEF716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1AA6-F616-46D9-A27A-F009B7198912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525C-3628-469A-8056-97E6F7D0C7E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6C1-3F07-465E-9B22-759D40F4B7A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10D5-10B9-4B7D-A253-66A0EC08A01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9580-9908-43AE-96BA-D1D5EF45BF6F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4935-19D6-4710-A350-8A50DB89DDB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6E32-32FC-445C-B480-6F460273CC0C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C41-579F-491F-A2D5-80A8E18AEE8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C4AF-902B-4206-BF61-8E49659D46E3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2C7D-B6DB-48AE-AABA-95B508E99E5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EC0-A884-4FB3-B0C5-184CCF35D5C2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8D1B-A2FD-4965-B631-B8A6625EBA0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2010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3e5d78"/>
                </a:solidFill>
                <a:latin typeface="Arial"/>
              </a:rPr>
              <a:t>Химические процессы в растворах</a:t>
            </a:r>
            <a:endParaRPr b="0" lang="en-US" sz="4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601A-94AC-46FE-ABA0-3A35D8D34B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6300720" cy="51577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9900"/>
                </a:solidFill>
                <a:latin typeface="Cambria"/>
              </a:rPr>
              <a:t>Схема диссоциации полярной молекулы хлороводорода:</a:t>
            </a:r>
            <a:r>
              <a:rPr b="0" lang="ru-RU" sz="40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2"/>
          <a:stretch/>
        </p:blipFill>
        <p:spPr>
          <a:xfrm>
            <a:off x="0" y="4311720"/>
            <a:ext cx="3419640" cy="25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364-35DB-471B-BB90-13C654EBD4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Электролиты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92ca"/>
                </a:solidFill>
                <a:latin typeface="Calibri"/>
              </a:rPr>
              <a:t>Силь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и растворен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 воде практическ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олность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распадаются 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он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427640" y="1628640"/>
            <a:ext cx="440208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Слабые</a:t>
            </a:r>
            <a:r>
              <a:rPr b="0" lang="ru-RU" sz="2400" spc="-1" strike="noStrike">
                <a:solidFill>
                  <a:srgbClr val="b292c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ичн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адаются 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оны. Их раствор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т  ионы 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распавшиес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лекулы, поэтом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центрация ион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2E0-57D4-437B-8469-4CAC863DCD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00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Сильные электролиты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щества с ионными или сильно полярными связя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хорошо растворимые соли, сильные кисло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Cl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B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Cl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NO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сильные основания: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b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s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С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7E4-4579-4509-8355-D15E223CEA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 </a:t>
            </a:r>
            <a:r>
              <a:rPr b="1" lang="ru-RU" sz="3200" spc="-1" strike="noStrike">
                <a:solidFill>
                  <a:srgbClr val="669900"/>
                </a:solidFill>
                <a:latin typeface="Cambria"/>
              </a:rPr>
              <a:t>Слабые электролит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с неполярными и малополярными связя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очти все органические кислоты 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которые неорганические кислоты 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почти все малорастворимые в воде соли, основания и гидроксид аммония 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H</a:t>
            </a:r>
            <a:r>
              <a:rPr b="0" lang="ru-RU" sz="26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74A-BA5D-4C6E-82CB-D84E5987C0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Степень диссоциаци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Степень диссоциации (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α</a:t>
            </a: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b292ca"/>
                </a:solidFill>
                <a:latin typeface="Calibri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отношение числа распавшихся на ионы молекул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к общему числу растворенных молекул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: 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5651640" y="4254480"/>
            <a:ext cx="3492360" cy="26035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n331"/>
          <p:cNvPicPr/>
          <p:nvPr/>
        </p:nvPicPr>
        <p:blipFill>
          <a:blip r:embed="rId2"/>
          <a:stretch/>
        </p:blipFill>
        <p:spPr>
          <a:xfrm>
            <a:off x="324000" y="4202280"/>
            <a:ext cx="4968720" cy="188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E60-4276-4712-BD39-40E37AFD58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92ca"/>
                </a:solidFill>
                <a:latin typeface="Cambria"/>
              </a:rPr>
              <a:t>Электролитическая диссоциация веществ, идущая с образованием свободных ионов объясняет электрическую проводимость растворов</a:t>
            </a:r>
            <a:r>
              <a:rPr b="0" lang="en-US" sz="2900" spc="-1" strike="noStrike">
                <a:solidFill>
                  <a:srgbClr val="b292ca"/>
                </a:solidFill>
                <a:latin typeface="Cambria"/>
              </a:rPr>
              <a:t>.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8360" y="314136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CaCl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  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C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+ 2Cl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KAl(S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K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Al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3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2S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N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N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3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B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 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B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91D-16D6-4BF0-A535-AFDB7B4616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Диссоциация кисло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уществляется ступенчато. На каждой ступени отщепляется один ион водор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 Cl =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+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 +  Cl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- 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Calibri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 =  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упен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H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-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  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=   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  <a:ea typeface="Times New Roman"/>
              </a:rPr>
              <a:t>2-</a:t>
            </a:r>
            <a:r>
              <a:rPr b="0" lang="ru-RU" sz="2800" spc="-1" strike="noStrike" baseline="30000">
                <a:solidFill>
                  <a:srgbClr val="0000ff"/>
                </a:solidFill>
                <a:latin typeface="Calibri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I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упен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b292ca"/>
                </a:solidFill>
                <a:latin typeface="Calibri"/>
              </a:rPr>
              <a:t>Кислот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при диссоциации образую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тионы водорода и анионы кислот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татк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FE8-4113-433B-B95E-FB4C1C9F9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Диссоциация основани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B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B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Gill Sans MT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292ca"/>
                </a:solidFill>
                <a:latin typeface="Calibri"/>
              </a:rPr>
              <a:t>Осн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при диссоциации образуют катионы металла и анионы - гидроксид-ион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04E-D8C1-4C34-B3EE-1B8904D91D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Диссоциация сол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075520" cy="39895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Средние со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оли, состоящие из атомов металла и кислотного остатка, диссоциируют в одну ступен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CaCl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Gill Sans MT"/>
                <a:ea typeface="Times New Roman"/>
              </a:rPr>
              <a:t>2  </a:t>
            </a:r>
            <a:r>
              <a:rPr b="1" lang="ru-RU" sz="3600" spc="-1" strike="noStrike" baseline="-30000">
                <a:solidFill>
                  <a:srgbClr val="0000ff"/>
                </a:solidFill>
                <a:latin typeface="Calibri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 C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2+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Gill Sans MT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+ 2C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KBr =  K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 + Br</a:t>
            </a:r>
            <a:r>
              <a:rPr b="1" lang="ru-RU" sz="3600" spc="-1" strike="noStrike" baseline="30000">
                <a:solidFill>
                  <a:srgbClr val="0000ff"/>
                </a:solidFill>
                <a:latin typeface="Calibri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NaCl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 =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N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Gill Sans MT"/>
                <a:ea typeface="Times New Roman"/>
              </a:rPr>
              <a:t>C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Gill Sans MT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412-672D-4925-B61D-ABFB72B195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Диссоциация солей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Кислые со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оли, в состав молекул которых кроме атомов металла входят атомы водорода, распадаются ступенчато. Сначала отрываются все атомы металла, а затем атомы водорода по- одном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K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 = K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 + 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Calibri"/>
              </a:rPr>
              <a:t>3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</a:rPr>
              <a:t>−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Calibri"/>
              </a:rPr>
              <a:t>3</a:t>
            </a:r>
            <a:r>
              <a:rPr b="1" lang="ru-RU" sz="3600" spc="-1" strike="noStrike" baseline="30000">
                <a:solidFill>
                  <a:srgbClr val="6600cc"/>
                </a:solidFill>
                <a:latin typeface="Calibri"/>
              </a:rPr>
              <a:t>− </a:t>
            </a:r>
            <a:r>
              <a:rPr b="1" lang="ru-RU" sz="3600" spc="-1" strike="noStrike">
                <a:solidFill>
                  <a:srgbClr val="6600cc"/>
                </a:solidFill>
                <a:latin typeface="Calibri"/>
              </a:rPr>
              <a:t>= 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</a:rPr>
              <a:t>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Gill Sans MT"/>
              </a:rPr>
              <a:t> + C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Gill Sans MT"/>
              </a:rPr>
              <a:t>3</a:t>
            </a:r>
            <a:r>
              <a:rPr b="1" lang="en-US" sz="3600" spc="-1" strike="noStrike" baseline="30000">
                <a:solidFill>
                  <a:srgbClr val="6600cc"/>
                </a:solidFill>
                <a:latin typeface="Gill Sans MT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992-C86F-4E24-BFE7-277F614E14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Вещества</a:t>
            </a: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4038480" cy="39895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92ca"/>
                </a:solidFill>
                <a:latin typeface="Calibri"/>
              </a:rPr>
              <a:t>Электроли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щества, растворы и расплавы которых не проводят электрический 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8320" y="1600200"/>
            <a:ext cx="4038480" cy="39895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92ca"/>
                </a:solidFill>
                <a:latin typeface="Calibri"/>
              </a:rPr>
              <a:t>Неэлектроли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ещества, растворы и расплавы которых не проводят электрический т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49B-4FF5-4F1C-9C95-06A552BC0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00"/>
                </a:solidFill>
                <a:latin typeface="Cambria"/>
              </a:rPr>
              <a:t>Шведский ученый Сванте Аррениус(1859-1927)</a:t>
            </a:r>
            <a:r>
              <a:rPr b="0" lang="ru-RU" sz="36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68360" y="1916280"/>
            <a:ext cx="475128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1887 году создал теорию Э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1903году был удостоен Нобелевской прем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За чрезвычайные заслуги в развитии хими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5624640" y="1700280"/>
            <a:ext cx="3124080" cy="4392720"/>
          </a:xfrm>
          <a:prstGeom prst="rect">
            <a:avLst/>
          </a:prstGeom>
          <a:ln w="0">
            <a:noFill/>
          </a:ln>
        </p:spPr>
      </p:pic>
      <p:pic>
        <p:nvPicPr>
          <p:cNvPr id="441" name="Аррениус.wav" descr=""/>
          <p:cNvPicPr/>
          <p:nvPr/>
        </p:nvPicPr>
        <p:blipFill>
          <a:blip r:embed="rId2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A4E-A423-4E69-B15C-9B823E35C6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29743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3311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Каблуков И</a:t>
            </a: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.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А</a:t>
            </a: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.</a:t>
            </a:r>
            <a:r>
              <a:rPr b="0" lang="en-US" sz="36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3" name="Picture 4" descr="Каблуков"/>
          <p:cNvPicPr/>
          <p:nvPr/>
        </p:nvPicPr>
        <p:blipFill>
          <a:blip r:embed="rId1"/>
          <a:stretch/>
        </p:blipFill>
        <p:spPr>
          <a:xfrm>
            <a:off x="250920" y="260280"/>
            <a:ext cx="3397320" cy="44118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Кистяковский"/>
          <p:cNvPicPr/>
          <p:nvPr/>
        </p:nvPicPr>
        <p:blipFill>
          <a:blip r:embed="rId2"/>
          <a:stretch/>
        </p:blipFill>
        <p:spPr>
          <a:xfrm>
            <a:off x="4500720" y="404640"/>
            <a:ext cx="4249440" cy="463104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8"/>
          <p:cNvSpPr/>
          <p:nvPr/>
        </p:nvSpPr>
        <p:spPr>
          <a:xfrm>
            <a:off x="4643280" y="5445000"/>
            <a:ext cx="41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64653"/>
                </a:solidFill>
                <a:latin typeface="Arial"/>
              </a:rPr>
              <a:t>Кистяковский В.А.</a:t>
            </a:r>
            <a:r>
              <a:rPr b="0" lang="ru-RU" sz="4000" spc="-1" strike="noStrike">
                <a:solidFill>
                  <a:srgbClr val="46465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712-F7F0-422F-AEBA-D3222C0645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усские химики И.А.Каблуков и В.А.Кистяковский применили к объяснению электролитической диссоциации химическую теорию растворов Д.И.Менделеева и доказали, что при растворении электролита происходит химическое взаимодействие растворенного вещества с водой, которое приводит к образованию гидратов, а затем они диссоциируют на ион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4BD-DBE8-4A40-930B-2EE6E8FE38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68360" y="2349000"/>
            <a:ext cx="8229600" cy="324036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 Электролиты в водной среде (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расплавленном состоянии) распадаютс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оложительно заряженные ион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катионы) и отрицательно заряженны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оны (анионы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94D-CF6E-4462-A044-62618658C6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FBEB-DF90-4BD2-8761-C6333D6965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23640" y="2420640"/>
            <a:ext cx="8373960" cy="381636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 Беспорядочное движение ионов в растворе под действием электрического поля становится направленным: положительно заряженные ионы (катионы) движутся к электроду с отрицательным зарядом (катоду), а анионы – к анод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A4B-9277-40E6-909A-B9F3159FD2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Диссоциация – обратимый процесс: параллельно с распадом молекул на ионы (диссоциацией) протекает процесс соединения ионов (ассоциация). Поэтому в уравнениях электролитической диссоциации вместо знака равенства ставят знак обратимости.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NaCl       Na</a:t>
            </a:r>
            <a:r>
              <a:rPr b="1" lang="en-US" sz="3600" spc="-1" strike="noStrike" baseline="30000">
                <a:solidFill>
                  <a:srgbClr val="b292ca"/>
                </a:solidFill>
                <a:latin typeface="Gill Sans MT"/>
              </a:rPr>
              <a:t>+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+ Cl</a:t>
            </a:r>
            <a:r>
              <a:rPr b="1" lang="en-US" sz="3600" spc="-1" strike="noStrike" baseline="30000">
                <a:solidFill>
                  <a:srgbClr val="b292ca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Line 4"/>
          <p:cNvSpPr/>
          <p:nvPr/>
        </p:nvSpPr>
        <p:spPr>
          <a:xfrm>
            <a:off x="4716360" y="5589720"/>
            <a:ext cx="576360" cy="0"/>
          </a:xfrm>
          <a:prstGeom prst="line">
            <a:avLst/>
          </a:prstGeom>
          <a:ln w="38160">
            <a:solidFill>
              <a:srgbClr val="b292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 flipH="1">
            <a:off x="4716360" y="5734080"/>
            <a:ext cx="503280" cy="0"/>
          </a:xfrm>
          <a:prstGeom prst="line">
            <a:avLst/>
          </a:prstGeom>
          <a:ln w="38160">
            <a:solidFill>
              <a:srgbClr val="b292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208-F67F-401C-BF2B-F9ED9329B7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8360" y="2637000"/>
            <a:ext cx="8229600" cy="34178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епень электролитической диссоциаци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зависит от природы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ктролита и растворителя, температуры и концентрации. Она показывает отношение числа молекул, распавшихся на ион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к общему числу молекул, введенных в раствор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8FC-E72F-44C4-8AA5-ECF557CFAE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Основные положения 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теории Э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8360" y="2565000"/>
            <a:ext cx="8229600" cy="26924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Свойства ионов резко отличаются 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йств нейтральных атом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яющих их элементов. Ионы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дных растворах гидратирова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отличие ионов от молекул_xvid.avi" descr=""/>
          <p:cNvPicPr/>
          <p:nvPr/>
        </p:nvPicPr>
        <p:blipFill>
          <a:blip r:embed="rId1"/>
          <a:stretch/>
        </p:blipFill>
        <p:spPr>
          <a:xfrm>
            <a:off x="7764480" y="5823000"/>
            <a:ext cx="1379520" cy="10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0ED-66AA-42FE-AF07-301D00F828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54600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00"/>
                </a:solidFill>
                <a:latin typeface="Cambria"/>
              </a:rPr>
              <a:t>Неэлектролиты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ещества, которые содержат ковалентные неполярные или малополярные связи. Эти связи не распадаются на ион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газы, твердые вещества (неметаллы), органические соединения (сахароза, бензин, спирт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6B8-D08C-48F8-8143-60FBE6AE7D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Электролиты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ещества, которые содержат ионные и ковалентные полярные связи. Эти связи легко распадаются на и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еорганические кислоты, основания, со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5003640" y="3767040"/>
            <a:ext cx="4140360" cy="30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EF5-9879-4723-A375-11457EB12A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042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Электролитическая диссоциация</a:t>
            </a:r>
            <a:r>
              <a:rPr b="0" lang="en-US" sz="4000" spc="-1" strike="noStrike">
                <a:solidFill>
                  <a:srgbClr val="464653"/>
                </a:solidFill>
                <a:latin typeface="Cambria"/>
              </a:rPr>
              <a:t> – процесс распада электролита на ионы при растворении его в воде или расплавлении</a:t>
            </a:r>
            <a:endParaRPr b="0" lang="en-US" sz="4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FE5-47B9-4155-9959-D4DF62FB12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Вещества с ионной связью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673800" cy="3008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408120" cy="35398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9"/>
          <p:cNvSpPr/>
          <p:nvPr/>
        </p:nvSpPr>
        <p:spPr>
          <a:xfrm>
            <a:off x="539640" y="5373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ическая решет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5508720" y="587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7BC-3A72-4731-8443-B9B64C3C1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9900"/>
                </a:solidFill>
                <a:latin typeface="Cambria"/>
              </a:rPr>
              <a:t>Механизм ЭД </a:t>
            </a:r>
            <a:br>
              <a:rPr sz="2900"/>
            </a:br>
            <a:r>
              <a:rPr b="1" lang="en-US" sz="2900" spc="-1" strike="noStrike">
                <a:solidFill>
                  <a:srgbClr val="669900"/>
                </a:solidFill>
                <a:latin typeface="Cambria"/>
              </a:rPr>
              <a:t>ионных веществ</a:t>
            </a:r>
            <a:r>
              <a:rPr b="0" lang="en-US" sz="3600" spc="-1" strike="noStrike">
                <a:solidFill>
                  <a:srgbClr val="464653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иентация  диполей воды вокруг кристаллов со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разование между молекулами воды и ионами кристаллов слабых связ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ушение  кристаллической решетки и образование гидратированных ион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D5C-F742-4429-A933-272E8A298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Oval 4"/>
          <p:cNvSpPr/>
          <p:nvPr/>
        </p:nvSpPr>
        <p:spPr>
          <a:xfrm>
            <a:off x="1116000" y="1413000"/>
            <a:ext cx="720720" cy="718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1908000" y="1413000"/>
            <a:ext cx="721080" cy="718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187280" y="1557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97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cz_wody_dipol"/>
          <p:cNvPicPr/>
          <p:nvPr/>
        </p:nvPicPr>
        <p:blipFill>
          <a:blip r:embed="rId1"/>
          <a:stretch/>
        </p:blipFill>
        <p:spPr>
          <a:xfrm>
            <a:off x="1908000" y="2205000"/>
            <a:ext cx="443160" cy="100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cz_wody_dipol"/>
          <p:cNvPicPr/>
          <p:nvPr/>
        </p:nvPicPr>
        <p:blipFill>
          <a:blip r:embed="rId2"/>
          <a:stretch/>
        </p:blipFill>
        <p:spPr>
          <a:xfrm rot="19456200">
            <a:off x="2627280" y="1971360"/>
            <a:ext cx="506520" cy="115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cz_wody_dipol"/>
          <p:cNvPicPr/>
          <p:nvPr/>
        </p:nvPicPr>
        <p:blipFill>
          <a:blip r:embed="rId3"/>
          <a:stretch/>
        </p:blipFill>
        <p:spPr>
          <a:xfrm rot="13458600">
            <a:off x="2700000" y="40428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cz_wody_dipol"/>
          <p:cNvPicPr/>
          <p:nvPr/>
        </p:nvPicPr>
        <p:blipFill>
          <a:blip r:embed="rId4"/>
          <a:stretch/>
        </p:blipFill>
        <p:spPr>
          <a:xfrm rot="16478400">
            <a:off x="2950200" y="116064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cz_wody_dipol"/>
          <p:cNvPicPr/>
          <p:nvPr/>
        </p:nvPicPr>
        <p:blipFill>
          <a:blip r:embed="rId5"/>
          <a:stretch/>
        </p:blipFill>
        <p:spPr>
          <a:xfrm rot="10401600">
            <a:off x="1834920" y="260280"/>
            <a:ext cx="506160" cy="1152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cz_wody_dipol"/>
          <p:cNvPicPr/>
          <p:nvPr/>
        </p:nvPicPr>
        <p:blipFill>
          <a:blip r:embed="rId6"/>
          <a:stretch/>
        </p:blipFill>
        <p:spPr>
          <a:xfrm rot="13795200">
            <a:off x="573480" y="1881360"/>
            <a:ext cx="506520" cy="1152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cz_wody_dipol"/>
          <p:cNvPicPr/>
          <p:nvPr/>
        </p:nvPicPr>
        <p:blipFill>
          <a:blip r:embed="rId7"/>
          <a:stretch/>
        </p:blipFill>
        <p:spPr>
          <a:xfrm rot="20142600">
            <a:off x="900000" y="25992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5" descr="cz_wody_dipol"/>
          <p:cNvPicPr/>
          <p:nvPr/>
        </p:nvPicPr>
        <p:blipFill>
          <a:blip r:embed="rId8"/>
          <a:stretch/>
        </p:blipFill>
        <p:spPr>
          <a:xfrm rot="10492800">
            <a:off x="1328400" y="2275920"/>
            <a:ext cx="474480" cy="1081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6" descr="cz_wody_dipol"/>
          <p:cNvPicPr/>
          <p:nvPr/>
        </p:nvPicPr>
        <p:blipFill>
          <a:blip r:embed="rId9"/>
          <a:stretch/>
        </p:blipFill>
        <p:spPr>
          <a:xfrm rot="17552400">
            <a:off x="322920" y="802080"/>
            <a:ext cx="506520" cy="1152360"/>
          </a:xfrm>
          <a:prstGeom prst="rect">
            <a:avLst/>
          </a:prstGeom>
          <a:ln w="0">
            <a:noFill/>
          </a:ln>
        </p:spPr>
      </p:pic>
      <p:sp>
        <p:nvSpPr>
          <p:cNvPr id="382" name="Line 17"/>
          <p:cNvSpPr/>
          <p:nvPr/>
        </p:nvSpPr>
        <p:spPr>
          <a:xfrm>
            <a:off x="3635280" y="1989000"/>
            <a:ext cx="936720" cy="14472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8"/>
          <p:cNvSpPr/>
          <p:nvPr/>
        </p:nvSpPr>
        <p:spPr>
          <a:xfrm>
            <a:off x="5651640" y="1773360"/>
            <a:ext cx="720720" cy="718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9"/>
          <p:cNvSpPr/>
          <p:nvPr/>
        </p:nvSpPr>
        <p:spPr>
          <a:xfrm>
            <a:off x="5724360" y="1916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2" descr="cz_wody_dipol"/>
          <p:cNvPicPr/>
          <p:nvPr/>
        </p:nvPicPr>
        <p:blipFill>
          <a:blip r:embed="rId10"/>
          <a:stretch/>
        </p:blipFill>
        <p:spPr>
          <a:xfrm>
            <a:off x="5867280" y="692280"/>
            <a:ext cx="443160" cy="100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3" descr="cz_wody_dipol"/>
          <p:cNvPicPr/>
          <p:nvPr/>
        </p:nvPicPr>
        <p:blipFill>
          <a:blip r:embed="rId11"/>
          <a:stretch/>
        </p:blipFill>
        <p:spPr>
          <a:xfrm rot="13921200">
            <a:off x="4893840" y="202680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4" descr="cz_wody_dipol"/>
          <p:cNvPicPr/>
          <p:nvPr/>
        </p:nvPicPr>
        <p:blipFill>
          <a:blip r:embed="rId12"/>
          <a:stretch/>
        </p:blipFill>
        <p:spPr>
          <a:xfrm rot="18654000">
            <a:off x="5038560" y="94572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cz_wody_dipol"/>
          <p:cNvPicPr/>
          <p:nvPr/>
        </p:nvPicPr>
        <p:blipFill>
          <a:blip r:embed="rId13"/>
          <a:stretch/>
        </p:blipFill>
        <p:spPr>
          <a:xfrm rot="10610400">
            <a:off x="5866560" y="249192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389" name="Oval 25"/>
          <p:cNvSpPr/>
          <p:nvPr/>
        </p:nvSpPr>
        <p:spPr>
          <a:xfrm>
            <a:off x="6804000" y="1773360"/>
            <a:ext cx="720720" cy="71892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687708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7" descr="cz_wody_dipol"/>
          <p:cNvPicPr/>
          <p:nvPr/>
        </p:nvPicPr>
        <p:blipFill>
          <a:blip r:embed="rId14"/>
          <a:stretch/>
        </p:blipFill>
        <p:spPr>
          <a:xfrm rot="18454200">
            <a:off x="7740720" y="198900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8" descr="cz_wody_dipol"/>
          <p:cNvPicPr/>
          <p:nvPr/>
        </p:nvPicPr>
        <p:blipFill>
          <a:blip r:embed="rId15"/>
          <a:stretch/>
        </p:blipFill>
        <p:spPr>
          <a:xfrm rot="21172800">
            <a:off x="7092720" y="256500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9" descr="cz_wody_dipol"/>
          <p:cNvPicPr/>
          <p:nvPr/>
        </p:nvPicPr>
        <p:blipFill>
          <a:blip r:embed="rId16"/>
          <a:stretch/>
        </p:blipFill>
        <p:spPr>
          <a:xfrm rot="12843000">
            <a:off x="7524360" y="83628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0" descr="cz_wody_dipol"/>
          <p:cNvPicPr/>
          <p:nvPr/>
        </p:nvPicPr>
        <p:blipFill>
          <a:blip r:embed="rId17"/>
          <a:stretch/>
        </p:blipFill>
        <p:spPr>
          <a:xfrm rot="10610400">
            <a:off x="6803280" y="62028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395" name="Line 31"/>
          <p:cNvSpPr/>
          <p:nvPr/>
        </p:nvSpPr>
        <p:spPr>
          <a:xfrm flipH="1">
            <a:off x="4284360" y="3068640"/>
            <a:ext cx="934920" cy="93672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2"/>
          <p:cNvSpPr/>
          <p:nvPr/>
        </p:nvSpPr>
        <p:spPr>
          <a:xfrm>
            <a:off x="6877080" y="3357720"/>
            <a:ext cx="0" cy="64764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33"/>
          <p:cNvSpPr/>
          <p:nvPr/>
        </p:nvSpPr>
        <p:spPr>
          <a:xfrm>
            <a:off x="2700360" y="4797360"/>
            <a:ext cx="720720" cy="71928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4"/>
          <p:cNvSpPr/>
          <p:nvPr/>
        </p:nvSpPr>
        <p:spPr>
          <a:xfrm>
            <a:off x="2771640" y="501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5" descr="cz_wody_dipol"/>
          <p:cNvPicPr/>
          <p:nvPr/>
        </p:nvPicPr>
        <p:blipFill>
          <a:blip r:embed="rId18"/>
          <a:stretch/>
        </p:blipFill>
        <p:spPr>
          <a:xfrm rot="12173400">
            <a:off x="2410920" y="54446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" descr="cz_wody_dipol"/>
          <p:cNvPicPr/>
          <p:nvPr/>
        </p:nvPicPr>
        <p:blipFill>
          <a:blip r:embed="rId19"/>
          <a:stretch/>
        </p:blipFill>
        <p:spPr>
          <a:xfrm rot="20915400">
            <a:off x="2627280" y="357336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7" descr="cz_wody_dipol"/>
          <p:cNvPicPr/>
          <p:nvPr/>
        </p:nvPicPr>
        <p:blipFill>
          <a:blip r:embed="rId20"/>
          <a:stretch/>
        </p:blipFill>
        <p:spPr>
          <a:xfrm rot="7428000">
            <a:off x="3669480" y="5122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8" descr="cz_wody_dipol"/>
          <p:cNvPicPr/>
          <p:nvPr/>
        </p:nvPicPr>
        <p:blipFill>
          <a:blip r:embed="rId21"/>
          <a:stretch/>
        </p:blipFill>
        <p:spPr>
          <a:xfrm rot="2473800">
            <a:off x="3492360" y="378936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9" descr="cz_wody_dipol"/>
          <p:cNvPicPr/>
          <p:nvPr/>
        </p:nvPicPr>
        <p:blipFill>
          <a:blip r:embed="rId22"/>
          <a:stretch/>
        </p:blipFill>
        <p:spPr>
          <a:xfrm rot="17331600">
            <a:off x="1798560" y="425880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404" name="Oval 40"/>
          <p:cNvSpPr/>
          <p:nvPr/>
        </p:nvSpPr>
        <p:spPr>
          <a:xfrm>
            <a:off x="6588000" y="5013360"/>
            <a:ext cx="720720" cy="71928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1"/>
          <p:cNvSpPr/>
          <p:nvPr/>
        </p:nvSpPr>
        <p:spPr>
          <a:xfrm>
            <a:off x="6659640" y="5229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2" descr="cz_wody_dipol"/>
          <p:cNvPicPr/>
          <p:nvPr/>
        </p:nvPicPr>
        <p:blipFill>
          <a:blip r:embed="rId23"/>
          <a:stretch/>
        </p:blipFill>
        <p:spPr>
          <a:xfrm rot="11200200">
            <a:off x="6803640" y="386028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3" descr="cz_wody_dipol"/>
          <p:cNvPicPr/>
          <p:nvPr/>
        </p:nvPicPr>
        <p:blipFill>
          <a:blip r:embed="rId24"/>
          <a:stretch/>
        </p:blipFill>
        <p:spPr>
          <a:xfrm rot="4032000">
            <a:off x="5686560" y="5193720"/>
            <a:ext cx="506160" cy="1151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4" descr="cz_wody_dipol"/>
          <p:cNvPicPr/>
          <p:nvPr/>
        </p:nvPicPr>
        <p:blipFill>
          <a:blip r:embed="rId25"/>
          <a:stretch/>
        </p:blipFill>
        <p:spPr>
          <a:xfrm rot="7872600">
            <a:off x="5901480" y="4114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5" descr="cz_wody_dipol"/>
          <p:cNvPicPr/>
          <p:nvPr/>
        </p:nvPicPr>
        <p:blipFill>
          <a:blip r:embed="rId26"/>
          <a:stretch/>
        </p:blipFill>
        <p:spPr>
          <a:xfrm rot="14474400">
            <a:off x="7630920" y="418608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6" descr="cz_wody_dipol"/>
          <p:cNvPicPr/>
          <p:nvPr/>
        </p:nvPicPr>
        <p:blipFill>
          <a:blip r:embed="rId27"/>
          <a:stretch/>
        </p:blipFill>
        <p:spPr>
          <a:xfrm rot="18454200">
            <a:off x="7558200" y="5338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7" descr="cz_wody_dipol"/>
          <p:cNvPicPr/>
          <p:nvPr/>
        </p:nvPicPr>
        <p:blipFill>
          <a:blip r:embed="rId28"/>
          <a:stretch/>
        </p:blipFill>
        <p:spPr>
          <a:xfrm rot="520200">
            <a:off x="6587640" y="570672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1EE2-E7B8-4857-9E1C-B93F4A04EB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Механизм ЭД</a:t>
            </a:r>
            <a:br>
              <a:rPr sz="3200"/>
            </a:br>
            <a:r>
              <a:rPr b="1" lang="en-US" sz="3200" spc="-1" strike="noStrike">
                <a:solidFill>
                  <a:srgbClr val="669900"/>
                </a:solidFill>
                <a:latin typeface="Cambria"/>
              </a:rPr>
              <a:t> полярных вещест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38160">
            <a:solidFill>
              <a:srgbClr val="b292c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риентация диполей воды вокруг полярной молекул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ще большая поляризация полярной молекулы и превращение полярной связи ее в ионну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разование свободных гидратирован-ных ионо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618-7EE2-4C26-8354-D543EFE15C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7:41:11Z</dcterms:created>
  <dc:creator>Зорина И.Г</dc:creator>
  <dc:description/>
  <dc:language>en-US</dc:language>
  <cp:lastModifiedBy>Student</cp:lastModifiedBy>
  <dcterms:modified xsi:type="dcterms:W3CDTF">2013-05-02T10:33:18Z</dcterms:modified>
  <cp:revision>28</cp:revision>
  <dc:subject/>
  <dc:title>ЭДС</dc:title>
</cp:coreProperties>
</file>